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81F-A35F-4C40-8B81-1C017BE5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CAC-0578-4A04-B63C-2B0AD2F5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D1C-492D-439B-8672-7E476598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379-E3FF-4476-ACF7-96DFB6CC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2667-696A-4EC7-9A8C-FF7FE686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2600-7391-4221-A1F6-3E2EB9E9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3F31-39D5-4975-9716-73243573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328B-5C1F-411F-81D3-CADD257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F598-5E7E-4F4C-8D6C-FD4DC586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57C9-4E31-455D-B199-E33AC062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0D63-BCBA-48D7-9C35-EBD7A396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D5F-F151-4BFD-9F81-7CBAC27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F043-03AD-4B10-9143-BBE6DFF6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3FA8-E621-4137-B681-1518EF7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CFCF-831B-492E-A83C-6C22C31E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B95F-F76C-4747-BB04-29055204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E7A1-2291-49F9-9D31-BE1D9070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61B-1928-4DD3-822A-8D70C198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3A1-2A38-4C2B-8B6D-AC8B2A2B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204-01F2-4AC8-9FB0-F4853ACD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CBF-557B-47AB-B6C3-7E8993F8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CB1-EB0D-486A-88E5-2E23F9B0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52B-34F7-4216-B718-5F7C3EF4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82B-8EE0-412A-9B78-31A675FC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FEDE-6757-49ED-8994-DE05760B80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A1A3-D1CC-4843-8C63-E21677E742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114300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33"/>
                </a:solidFill>
                <a:latin typeface="Albertus Extra Bold"/>
              </a:rPr>
              <a:t>The Constitution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System of Government, Fundamental &amp; Supreme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egislative Branch (Article I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Congress: Senate &amp;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make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power of the pur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taxation (Hou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rove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regulate interstate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in money &amp; se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rove appointments &amp; treaties (Sen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declar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4120" y="2514600"/>
            <a:ext cx="34560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Executive Branch (Article II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President, heads of departments, federal offic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reserve, protect, and defend the Constitu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nfor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veto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egotiate trea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ational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appoint officials (Supreme Court just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204804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Judicial Branch (Article III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Supreme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feder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9 justices, including 1 Chief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ointed by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approved by 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judicial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judicial review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nstitutionality of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Marbury v. Madison (18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62720" y="3581280"/>
            <a:ext cx="281628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aw-Making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bertus Medium"/>
              </a:rPr>
              <a:t>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eparate bills each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one combined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imple majority both houses to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5880" y="1905120"/>
            <a:ext cx="27972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aw-Making Process 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bertus Medium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ign: bill become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veto: bill goes back to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ocket veto: bill d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22669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Law-Making Process 3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lbertus Medium"/>
              </a:rPr>
              <a:t>Congress (in the event of a veto by Presid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must re-pass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2/3 majority each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if 2/3, bill becomes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if not, dead or back to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971800" y="4848120"/>
            <a:ext cx="30621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The Bill of Righ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lbertus Medium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ten amend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ersonal freedoms &amp;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ustice &amp; legal prot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owers not given to government remain with people &amp;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91320" y="1752480"/>
            <a:ext cx="265104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Amendment Proces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hanges can be made only by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nstitution amended only 27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1)  amendment can be propo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2/3 majority vote of Con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constitutional convention called by 2/3 of state legislatures (never happen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2) Archivist of US submits to governors of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governors give to state legislatures fo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3) ¾ states (38/50) must ratify to make part of the Constitution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181584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“</a:t>
            </a: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We the People . . . .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undamental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ntract among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an be changed on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by amend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24861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Constitutional Conv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May 25-September 17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hiladelphia’s Independence H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ames Madison: “Father of the Constitu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Washington presided (symbol of 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Virginia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ew Jersey P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971800" y="4645080"/>
            <a:ext cx="3363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“</a:t>
            </a: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Themes” of the Conven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iberty vs. Order (Shays’s Rebe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minority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tyranny of the maj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xecutiv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trong central government vs. states’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mall vs. larg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880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Compromis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Great Compromise: re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mall states: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large states: based up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Deal: Senate equal (2/per state), House by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lbertus Medium"/>
              </a:rPr>
              <a:t>3/5s Compromise: how should slaves be counted for representation &amp; tax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North: just  for ta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lbertus Medium"/>
              </a:rPr>
              <a:t>South: just for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lbertus Medium"/>
              </a:rPr>
              <a:t>Deal: “others” counted as 3/5 of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0" y="-304920"/>
            <a:ext cx="21016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lbertus Extra Bold"/>
              </a:rPr>
              <a:t>Federalists vs. Anti-Federalist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eder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ederalist Papers” (Hamilton, Madison, J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romised Antis bill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efferson &amp; Adam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Antis (Patrick Hen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ack of bill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o alternativ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0653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Ratification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power of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pecial reps elected to constitutional conventions in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need ¾ of states (9/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untry split about 50/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greater political &amp; organizational abilities of Feder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Antis had no alternativ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Delaware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lbertus Medium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 to ra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onstitution ratified June 21, 178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343400" y="152280"/>
            <a:ext cx="1825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Albertus Extra Bold"/>
              </a:rPr>
              <a:t>Principles of the Constitu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nlightenment/Classical Greco-Roman infl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balanced government: all classes/interests repres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imited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fede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3581280"/>
            <a:ext cx="4040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Albertus Extra Bold"/>
              </a:rPr>
              <a:t>Principles of the Constitution 2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Three Depar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Legis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Execu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Judic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Separation of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lbertus Medium"/>
              </a:rPr>
              <a:t>Checks &amp;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3581280"/>
            <a:ext cx="4040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15:31:35Z</dcterms:created>
  <dc:creator>epilla</dc:creator>
  <dc:description/>
  <dc:language>en-US</dc:language>
  <cp:lastModifiedBy>epilla</cp:lastModifiedBy>
  <dcterms:modified xsi:type="dcterms:W3CDTF">2009-11-07T18:54:29Z</dcterms:modified>
  <cp:revision>6</cp:revision>
  <dc:subject/>
  <dc:title>The Constitution</dc:title>
</cp:coreProperties>
</file>